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39C0-40DB-40F7-ACD6-A2C79CF2CA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8EDB-12AB-4B73-BEE5-92897E8D21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A34C-A934-4105-A493-C0639428E0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C394-A18B-407E-BC52-FF710E0F1E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56FE-B4C3-46AD-B2A6-C5B8DF04D4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E605-F3BD-46E5-AF88-7FF01D62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7DFD-9E9E-4147-B43C-2CCD9D7D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ECA8-E2B2-4407-AC1F-9270284A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27FA-672F-4F83-BE70-FA72E7D4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E896-62D6-4517-8180-86A993E1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3E6A-290E-4ED0-A976-57167C42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B213-F694-4F75-A032-A2FF66E5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B6D8-7FD2-411E-A264-2445D868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4612-6929-4F96-8923-2861CAC9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C7FB-15D4-4B62-9F3C-25DB5AA2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0718-EBFB-426A-B922-76CDE05A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C6C2-8C28-4509-9806-23C469AF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6A52-A92F-4782-A1D4-B6A4D56C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F74F-2DD5-4D4D-BC67-576F2B36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0D26-1F0A-433C-BFF7-4F726A29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DC6C-2598-4EA4-8633-6BE7719C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E49A-C600-453F-AC40-91B9199E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73E5-F486-499A-AAFA-AB5295EB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B188-9B48-4655-9D44-09298BAF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BA02-C6C5-44A2-8C35-DF039856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C2AF-AA5E-4BE9-BEEF-E4EB77ED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A364-B0BC-474D-9055-631042F2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0DDF-2DD4-4F55-AE32-69367E21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05F0-B4E3-4842-A2B4-DA2BF412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7"/>
          <p:cNvSpPr/>
          <p:nvPr/>
        </p:nvSpPr>
        <p:spPr>
          <a:xfrm rot="16200000">
            <a:off x="-2473200" y="2672640"/>
            <a:ext cx="6629400" cy="1587600"/>
          </a:xfrm>
          <a:custGeom>
            <a:avLst/>
            <a:gdLst>
              <a:gd name="textAreaLeft" fmla="*/ 0 w 6629400"/>
              <a:gd name="textAreaRight" fmla="*/ 6629760 w 662940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5693" h="1000">
                <a:moveTo>
                  <a:pt x="0" y="584"/>
                </a:moveTo>
                <a:cubicBezTo>
                  <a:pt x="249" y="545"/>
                  <a:pt x="844" y="377"/>
                  <a:pt x="1504" y="352"/>
                </a:cubicBezTo>
                <a:cubicBezTo>
                  <a:pt x="2168" y="300"/>
                  <a:pt x="3246" y="322"/>
                  <a:pt x="3960" y="432"/>
                </a:cubicBezTo>
                <a:cubicBezTo>
                  <a:pt x="4641" y="548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2ccfa"/>
              </a:gs>
              <a:gs pos="100000">
                <a:srgbClr val="e5f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8"/>
          <p:cNvSpPr/>
          <p:nvPr/>
        </p:nvSpPr>
        <p:spPr>
          <a:xfrm>
            <a:off x="63360" y="63360"/>
            <a:ext cx="9037800" cy="1605240"/>
          </a:xfrm>
          <a:custGeom>
            <a:avLst/>
            <a:gdLst>
              <a:gd name="textAreaLeft" fmla="*/ 0 w 9037800"/>
              <a:gd name="textAreaRight" fmla="*/ 9038160 w 9037800"/>
              <a:gd name="textAreaTop" fmla="*/ 0 h 1605240"/>
              <a:gd name="textAreaBottom" fmla="*/ 1605600 h 1605240"/>
            </a:gdLst>
            <a:ahLst/>
            <a:rect l="textAreaLeft" t="textAreaTop" r="textAreaRight" b="textAreaBottom"/>
            <a:pathLst>
              <a:path w="5693" h="1000">
                <a:moveTo>
                  <a:pt x="0" y="584"/>
                </a:moveTo>
                <a:cubicBezTo>
                  <a:pt x="253" y="552"/>
                  <a:pt x="820" y="405"/>
                  <a:pt x="1520" y="392"/>
                </a:cubicBezTo>
                <a:cubicBezTo>
                  <a:pt x="2184" y="340"/>
                  <a:pt x="3486" y="394"/>
                  <a:pt x="4200" y="504"/>
                </a:cubicBezTo>
                <a:cubicBezTo>
                  <a:pt x="4881" y="620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e7f2fe"/>
              </a:gs>
              <a:gs pos="100000">
                <a:srgbClr val="a2cc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9"/>
          <p:cNvSpPr/>
          <p:nvPr/>
        </p:nvSpPr>
        <p:spPr>
          <a:xfrm>
            <a:off x="324000" y="6500880"/>
            <a:ext cx="856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3240"/>
            <a:ext cx="9144000" cy="6854760"/>
            <a:chOff x="0" y="3240"/>
            <a:chExt cx="9144000" cy="6854760"/>
          </a:xfrm>
        </p:grpSpPr>
        <p:grpSp>
          <p:nvGrpSpPr>
            <p:cNvPr id="4" name="Group 31"/>
            <p:cNvGrpSpPr/>
            <p:nvPr/>
          </p:nvGrpSpPr>
          <p:grpSpPr>
            <a:xfrm>
              <a:off x="0" y="3240"/>
              <a:ext cx="9144000" cy="6854760"/>
              <a:chOff x="0" y="3240"/>
              <a:chExt cx="9144000" cy="6854760"/>
            </a:xfrm>
          </p:grpSpPr>
          <p:sp>
            <p:nvSpPr>
              <p:cNvPr id="5" name="Freeform 32"/>
              <p:cNvSpPr/>
              <p:nvPr/>
            </p:nvSpPr>
            <p:spPr>
              <a:xfrm>
                <a:off x="0" y="6386400"/>
                <a:ext cx="436680" cy="471600"/>
              </a:xfrm>
              <a:custGeom>
                <a:avLst/>
                <a:gdLst>
                  <a:gd name="textAreaLeft" fmla="*/ 0 w 436680"/>
                  <a:gd name="textAreaRight" fmla="*/ 436680 w 436680"/>
                  <a:gd name="textAreaTop" fmla="*/ 0 h 471600"/>
                  <a:gd name="textAreaBottom" fmla="*/ 471960 h 471600"/>
                </a:gdLst>
                <a:ahLst/>
                <a:rect l="textAreaLeft" t="textAreaTop" r="textAreaRight" b="textAreaBottom"/>
                <a:pathLst>
                  <a:path w="275" h="297">
                    <a:moveTo>
                      <a:pt x="275" y="291"/>
                    </a:moveTo>
                    <a:lnTo>
                      <a:pt x="112" y="211"/>
                    </a:lnTo>
                    <a:lnTo>
                      <a:pt x="28" y="127"/>
                    </a:lnTo>
                    <a:lnTo>
                      <a:pt x="0" y="0"/>
                    </a:lnTo>
                    <a:lnTo>
                      <a:pt x="1" y="29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33"/>
              <p:cNvSpPr/>
              <p:nvPr/>
            </p:nvSpPr>
            <p:spPr>
              <a:xfrm>
                <a:off x="31680" y="41400"/>
                <a:ext cx="9072720" cy="6770520"/>
              </a:xfrm>
              <a:prstGeom prst="roundRect">
                <a:avLst>
                  <a:gd name="adj" fmla="val 6227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34"/>
              <p:cNvSpPr/>
              <p:nvPr/>
            </p:nvSpPr>
            <p:spPr>
              <a:xfrm>
                <a:off x="0" y="3240"/>
                <a:ext cx="460440" cy="5000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290" h="315">
                    <a:moveTo>
                      <a:pt x="1" y="315"/>
                    </a:moveTo>
                    <a:cubicBezTo>
                      <a:pt x="21" y="279"/>
                      <a:pt x="76" y="150"/>
                      <a:pt x="122" y="97"/>
                    </a:cubicBezTo>
                    <a:cubicBezTo>
                      <a:pt x="163" y="44"/>
                      <a:pt x="290" y="23"/>
                      <a:pt x="279" y="0"/>
                    </a:cubicBez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35"/>
              <p:cNvSpPr/>
              <p:nvPr/>
            </p:nvSpPr>
            <p:spPr>
              <a:xfrm>
                <a:off x="8742240" y="6399360"/>
                <a:ext cx="401760" cy="45540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53" h="287">
                    <a:moveTo>
                      <a:pt x="250" y="0"/>
                    </a:moveTo>
                    <a:lnTo>
                      <a:pt x="179" y="143"/>
                    </a:lnTo>
                    <a:lnTo>
                      <a:pt x="85" y="236"/>
                    </a:lnTo>
                    <a:lnTo>
                      <a:pt x="0" y="287"/>
                    </a:lnTo>
                    <a:lnTo>
                      <a:pt x="253" y="28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Freeform 36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270000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9964-DBF3-4CE6-82CE-5F2C3E266B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38" descr="doct___19"/>
          <p:cNvPicPr/>
          <p:nvPr/>
        </p:nvPicPr>
        <p:blipFill>
          <a:blip r:embed="rId2"/>
          <a:stretch/>
        </p:blipFill>
        <p:spPr>
          <a:xfrm>
            <a:off x="324000" y="476280"/>
            <a:ext cx="755640" cy="4906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39" descr="diagr_08"/>
          <p:cNvPicPr/>
          <p:nvPr/>
        </p:nvPicPr>
        <p:blipFill>
          <a:blip r:embed="rId3"/>
          <a:stretch/>
        </p:blipFill>
        <p:spPr>
          <a:xfrm>
            <a:off x="0" y="0"/>
            <a:ext cx="601560" cy="73836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37" descr="diagr_11"/>
          <p:cNvPicPr/>
          <p:nvPr/>
        </p:nvPicPr>
        <p:blipFill>
          <a:blip r:embed="rId4"/>
          <a:stretch/>
        </p:blipFill>
        <p:spPr>
          <a:xfrm>
            <a:off x="108000" y="549360"/>
            <a:ext cx="431640" cy="30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8138-57FA-44C7-B7CD-561076BA01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1989000"/>
            <a:ext cx="828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полнительные разъяснения к инструкции по заполнению отчетной формы №61 за 2018 год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Сведения о болезни, вызванной вирусом иммунодефицита человек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4360" y="5300640"/>
            <a:ext cx="7632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атьяна Анатольевна Максим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лавный внештатный специалист по проблемам диагностики и лечения ВИЧ – инфекции Минздрава Забайкаль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9280" y="244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а №61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тв. Пр. Росстата №672 от 30.12.201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межгодовой контроль 2017/2018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19700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ь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61: таблица 2000 1гр, 04ст отчетного года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е 61 таблицы 1000, 12гр, 19ст предыдущего года + форма 61, 2000, 1гр, ст 05+07+09 отчетного года –форма 61 2000, 1гр, 10 ст отчетног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ь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61: 2000 таблица, 8гр, 04 ст отчетного года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1, 1000, 13гр , 19ст предыдущего года + форма 61, 2000, 8гр, ст 05+07+09 отчетного года – 2000, 8гр, ст10 отчетного 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866D-3EC2-4982-A6E7-4D31F6A7C8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itaids@kkib.sibhos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1518-204A-471F-A2CD-CC5DC2FAB3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3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только тех лиц, которые были обследованы на антитела к ВИЧ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кущем год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дицинских организациях, относящихся к Минздраву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, графа 2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у которых при исследовании крови на антитела к ВИЧ в отчетном году, получены положи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 контроля: строка 1, графа 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=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графе.3 (В20-24) +графе.4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допускается, что сумма граф. 2+3 может быть меньше графа.2 только на число пациентов, выявленных в течение 1-го месяца (декабрь текущего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2F87-F437-4F87-AB39-FD94C68948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836640"/>
            <a:ext cx="8300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 1+2, графы. 5-1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тся из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. 3100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2, графы.3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ыявлено в отчетном году пациентов с ВИЧ-инфекцией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ы В20-В2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»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строки 1+2, графы 5-1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 вносятся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других ведомст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45+46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учр. ФСИ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 47+48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 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таб.1000, строки.1+2, графы.5-1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сведений переносится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41-4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ие жите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43-4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БОМЖ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оки.49-5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ертные случа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51-5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граждан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2627280" y="651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5E25-A02D-4EF2-BE7B-CFA3B5606D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1000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.57- 60, графы.5-15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тся и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.57-5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ные лиц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20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включают в себя сведения о пациентах, зарегистрированных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. 59-6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аблицы.3100, строки.1, графы.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 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F4C5-C1A1-43C3-AA0E-23F72A9F07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роки. 1-8, графы 5-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формируютс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таблицы.3100, строки.1, графы.3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оме посмертных случаев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рока. 10, графы 5-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формируютс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ы.3100, строки.1, графы.4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рока. 9, графы 5-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формируютс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ы.1000, строк.57-58, графа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C778-37B9-42CC-9FBF-B1CC5ED139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инические стад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ациентов с ВИЧ-инфекцией показываются в строках 1-8 и только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рафах 16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CC44-C4AB-40AB-81E2-8BD9D06A4B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3000 показываются только те пациенты с ВИЧ-инфекцией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торые были обследов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 отчетном году – 201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D5D1-CCED-41F6-A191-9859F4CB94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строке 1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ся число пациенто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ИЧ-инфекцией с проявлениями Т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ы В20.0, В20.7, В22.7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мерших в отчетн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 всех причин, то есть использу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ды В20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6902-F4E6-47DF-B775-6E2DF77A36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2864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только те пациенты с ВИЧ-инфекцией, которы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ли пролеч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 текущем году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2018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2E09-66C7-44C0-AE46-1784AE7E14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1:03:22Z</dcterms:created>
  <dc:creator>Волошина ЛИ; Центр СПИД Чита</dc:creator>
  <dc:description/>
  <dc:language>en-US</dc:language>
  <cp:lastModifiedBy>Миргород</cp:lastModifiedBy>
  <dcterms:modified xsi:type="dcterms:W3CDTF">2018-12-20T05:02:31Z</dcterms:modified>
  <cp:revision>187</cp:revision>
  <dc:subject/>
  <dc:title>МОДЕРНИЗАЦИЯ СИСТЕМЫ ОКАЗАНИЯ ПРОТИВОТУБЕРКУЛЕЗНОЙ ПОМОЩИ БОЛЬНЫМ ТУБЕРКУЛЕЗОМ ЛЕГКИХ В НОВЫХ ЭПИДЕМИОЛОГИЧЕСКИХ УСЛОВИЯХ</dc:title>
</cp:coreProperties>
</file>